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D0A-1600-47DF-8C95-8BC049AD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8DC-2B5B-4D5D-B2C5-409C8D0C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28E-261A-44E8-BDEF-9CF0483E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58-8988-421D-BC4F-B4F2CCDF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45F0-7683-498B-AE3A-6761D94B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6AED-2659-4C8A-B135-C55FCE3A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E5D-8E42-46DA-837B-715205F2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515D-CD00-4CF5-A0B4-4BDA4C89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83EE-586A-465C-B8E8-3757018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C5B7-E6F7-413A-A25C-028E4A0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CC7-1C60-4BAE-B128-1062402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278-07A1-4B33-BCB8-110E605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9DB7-FACB-47E0-AE1D-93023C3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07C-008C-4117-ACF3-7B6C055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745-C879-48A0-BF06-CC68BD65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BC2-E796-4AB2-B1CD-7B98BA0E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A1F-FB09-424D-84CD-326A8C44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391-4088-47DB-8FB8-5E370C3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92F-216B-44EE-BBBF-E8709F0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77C-03B3-42D8-A4F1-E602637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F02-0425-4B0F-BCEC-4316887B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023-E31B-4238-ABA2-6819A10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538-DD6F-4B09-A515-04DE22B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8ED-D727-49F6-84E3-FE2FFDF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47E-B82B-4BE6-88B0-0AFE69DD6E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AB6-53D4-43DB-971F-006082CD1B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Прямая со стрелкой 3"/>
          <p:cNvCxnSpPr/>
          <p:nvPr/>
        </p:nvCxnSpPr>
        <p:spPr>
          <a:xfrm flipV="1">
            <a:off x="4787640" y="1412280"/>
            <a:ext cx="929160" cy="857880"/>
          </a:xfrm>
          <a:prstGeom prst="straightConnector1">
            <a:avLst/>
          </a:prstGeom>
          <a:ln w="93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87" name="Прямая со стрелкой 5"/>
          <p:cNvCxnSpPr/>
          <p:nvPr/>
        </p:nvCxnSpPr>
        <p:spPr>
          <a:xfrm>
            <a:off x="4788000" y="2565360"/>
            <a:ext cx="1072080" cy="572400"/>
          </a:xfrm>
          <a:prstGeom prst="straightConnector1">
            <a:avLst/>
          </a:prstGeom>
          <a:ln w="936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88" name="TextBox 6"/>
          <p:cNvSpPr/>
          <p:nvPr/>
        </p:nvSpPr>
        <p:spPr>
          <a:xfrm>
            <a:off x="5786280" y="1214280"/>
            <a:ext cx="307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ужит дл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орм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929200" y="3214800"/>
            <a:ext cx="2857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идаёт различные дополнитель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оттенки значения словам и предло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9"/>
          <p:cNvSpPr/>
          <p:nvPr/>
        </p:nvSpPr>
        <p:spPr>
          <a:xfrm>
            <a:off x="3071880" y="3000240"/>
            <a:ext cx="71280" cy="1643040"/>
          </a:xfrm>
          <a:prstGeom prst="downArrow">
            <a:avLst>
              <a:gd name="adj1" fmla="val 50000"/>
              <a:gd name="adj2" fmla="val 50156"/>
            </a:avLst>
          </a:prstGeom>
          <a:solidFill>
            <a:srgbClr val="bbe0e3"/>
          </a:solidFill>
          <a:ln w="3816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14200" y="285840"/>
            <a:ext cx="8643960" cy="947160"/>
          </a:xfrm>
          <a:prstGeom prst="rect">
            <a:avLst/>
          </a:prstGeom>
          <a:solidFill>
            <a:srgbClr val="9f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             </a:t>
            </a:r>
            <a:r>
              <a:rPr b="0" lang="ru-RU" sz="2800" spc="-1" strike="noStrike">
                <a:solidFill>
                  <a:srgbClr val="fe0000"/>
                </a:solidFill>
                <a:latin typeface="Arial Black"/>
              </a:rPr>
              <a:t>Неизменяе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fe0000"/>
                </a:solidFill>
                <a:latin typeface="Arial Black"/>
              </a:rPr>
              <a:t>служебная ча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верх 11"/>
          <p:cNvSpPr/>
          <p:nvPr/>
        </p:nvSpPr>
        <p:spPr>
          <a:xfrm>
            <a:off x="3000240" y="1214280"/>
            <a:ext cx="71640" cy="642960"/>
          </a:xfrm>
          <a:prstGeom prst="upArrow">
            <a:avLst>
              <a:gd name="adj1" fmla="val 50000"/>
              <a:gd name="adj2" fmla="val 49860"/>
            </a:avLst>
          </a:prstGeom>
          <a:solidFill>
            <a:srgbClr val="bbe0e3"/>
          </a:solidFill>
          <a:ln w="3816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71680" y="5214960"/>
            <a:ext cx="8072280" cy="825480"/>
          </a:xfrm>
          <a:prstGeom prst="rect">
            <a:avLst/>
          </a:prstGeom>
          <a:solidFill>
            <a:srgbClr val="a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является членом предложени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 может входить в их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79840" y="645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276640"/>
            <a:ext cx="36003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Час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1f9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 или НИ?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Чем объяснить различие в написании слов с пропущенными бук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Н…раз от скуки он свои мечты мне поверя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се эти дни я н… разу не пропустил у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Н… одна группа экскурсантов посетила сегодня вы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Н… один не отказался от предложения участвов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онкур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50920" y="126828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тиц забавные встречаются имена ... поверишь, что водится птица-поганка. Поганка ... рога и птичка-завирушка есть. Или ... ю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 Совсем милые имена: овсянка, просянка, коноплянка и ... чечевица. А ... плохое название чиж или чечетка. ... непонятными будут для нас имена: зеленушка, синехвостка, белолобик? ... Названия-прозвища лучше всего!        (По Н.И.Сладков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0000"/>
                </a:solidFill>
                <a:latin typeface="Arial"/>
              </a:rPr>
              <a:t>Задание.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Дополните текст частицами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именно, все-таки, ведь, разве, а вот, даже, неужели, да еще и, едва ли, просто).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Сделайте вывод о роли частиц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60280"/>
            <a:ext cx="8353440" cy="914400"/>
          </a:xfrm>
          <a:prstGeom prst="rect">
            <a:avLst/>
          </a:prstGeom>
          <a:solidFill>
            <a:srgbClr val="a1f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ставьте в текст необходимые час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solidFill>
            <a:srgbClr val="a1f9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 u="sng">
                <a:solidFill>
                  <a:srgbClr val="fe0000"/>
                </a:solidFill>
                <a:uFillTx/>
                <a:latin typeface="Arial"/>
              </a:rPr>
              <a:t>Определите значение частиц НЕ и НИ. </a:t>
            </a:r>
            <a:br>
              <a:rPr sz="2400"/>
            </a:b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ставьте пропущенные буквы, раскройте скобки, выбрав возможный в данном случае вариант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аж…шь (не, ни) воротишь, напиш…шь- (не, ни) сотрёшь, отруб…шь- (не, ни) пристав…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Наш Демид (не, ни) туда гл…д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Тот , кто жертвует жизнью за свои убеждения, (не, ни) может (не, ни) заслужить ув…жения своих соотече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Какой(же) русский (не, ни) любит быстрой езд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Как (не, ни) вертись, а с долгами распл…тись. 6) Сам он (не, ни) подозр…вал (не, ни) о чё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В воздухе (не, ни) звуков, (не, ни)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 Обид…ться (не, ни) с того(не, ни) (с) 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24000" y="1413000"/>
            <a:ext cx="8569080" cy="52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ы, Ли, 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просто служебные слова. Их нельзя смешивать с какими-то Кое или Нибудь, которые примазываются к членам предложения, держатся за них своей черт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цы Бы, Ли, Же не таковы; несмотря на свое служебное положение, они вполне самостоятельны и пишутся отдельно от других слов – это нужно всегда пом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ая из них занята своим делом – старается подчеркнуть главную мыс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неслужебное время... О, о чем только не говорят служебные слова в неслужебное врем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 у меня было не две, а три буквы, – говорит частица Бы, – я бы такое сказа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89000"/>
            <a:ext cx="7991280" cy="1008000"/>
          </a:xfrm>
          <a:prstGeom prst="rect">
            <a:avLst/>
          </a:prstGeom>
          <a:solidFill>
            <a:srgbClr val="a1f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0000"/>
                </a:solidFill>
                <a:latin typeface="Arial"/>
              </a:rPr>
              <a:t>БЫ, ЛИ, 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(Миниатюра Крив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79280" y="476280"/>
            <a:ext cx="8610840" cy="594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, эта частица </a:t>
            </a: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Б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ая она мечтатель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яд ли, – возражает ей частица </a:t>
            </a: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ерная своей привычке во всем сомневаться. – Да нужна ли тебе лишняя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же пустой разговор, – останавливает их </a:t>
            </a: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ивыкшая реально смотреть на вещи. – Тебе же вполне хватает двух букв – больше не положено по правопис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спорят в свободное время эти частицы. Хотя все они служебные слова, но у каждой свой характер, поэтому ведут они себя в тексте по-разн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Б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ч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мнев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0000"/>
                </a:solidFill>
                <a:latin typeface="Arial"/>
              </a:rPr>
              <a:t>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тверж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пробуйте прожить хоть без одной из этих частиц! Не проживе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179280" y="1428840"/>
            <a:ext cx="8785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можешь мне помочь. ( Частиц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яет слов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усиливает его значение в предложе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егда будет солнце!  (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 помощью частицы пусть образовано повелительное наклонение глаго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, как прекрасен наш город весной!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С помощью частиц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ы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разовано сослагательное </a:t>
            </a:r>
            <a:r>
              <a:rPr b="1" lang="ru-RU" sz="2000" spc="-1" strike="noStrike">
                <a:solidFill>
                  <a:srgbClr val="fe0000"/>
                </a:solidFill>
                <a:latin typeface="Arial"/>
              </a:rPr>
              <a:t>(условное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наклонение глаго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й друг! Нельз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ля прогулок подальше выбрать закоулок? (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астиц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ство образования вопросительного предл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ы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ажным в бою был он! (Частиц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разует превосходную степень имени прилагательно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буд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путчик ему подвернется!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Частиц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буд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разует неопределенное местоим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33360"/>
            <a:ext cx="7345440" cy="934920"/>
          </a:xfrm>
          <a:prstGeom prst="rect">
            <a:avLst/>
          </a:prstGeom>
          <a:solidFill>
            <a:srgbClr val="a1f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пределяем роль частиц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val 6"/>
          <p:cNvGrpSpPr/>
          <p:nvPr/>
        </p:nvGrpSpPr>
        <p:grpSpPr>
          <a:xfrm>
            <a:off x="3041640" y="1116000"/>
            <a:ext cx="2998800" cy="1706400"/>
            <a:chOff x="3041640" y="1116000"/>
            <a:chExt cx="2998800" cy="1706400"/>
          </a:xfrm>
        </p:grpSpPr>
        <p:pic>
          <p:nvPicPr>
            <p:cNvPr id="102" name="Oval 6" descr=""/>
            <p:cNvPicPr/>
            <p:nvPr/>
          </p:nvPicPr>
          <p:blipFill>
            <a:blip r:embed="rId1"/>
            <a:stretch/>
          </p:blipFill>
          <p:spPr>
            <a:xfrm>
              <a:off x="3041640" y="1116000"/>
              <a:ext cx="2998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654360" y="1536840"/>
              <a:ext cx="177660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Arial"/>
                </a:rPr>
                <a:t>ОТРИЦ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Oval 7"/>
          <p:cNvGrpSpPr/>
          <p:nvPr/>
        </p:nvGrpSpPr>
        <p:grpSpPr>
          <a:xfrm>
            <a:off x="6040440" y="1116000"/>
            <a:ext cx="3006720" cy="1706400"/>
            <a:chOff x="6040440" y="1116000"/>
            <a:chExt cx="3006720" cy="1706400"/>
          </a:xfrm>
        </p:grpSpPr>
        <p:pic>
          <p:nvPicPr>
            <p:cNvPr id="105" name="Oval 7" descr=""/>
            <p:cNvPicPr/>
            <p:nvPr/>
          </p:nvPicPr>
          <p:blipFill>
            <a:blip r:embed="rId2"/>
            <a:stretch/>
          </p:blipFill>
          <p:spPr>
            <a:xfrm>
              <a:off x="6040440" y="1116000"/>
              <a:ext cx="3006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654960" y="1536840"/>
              <a:ext cx="1780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Arial"/>
                </a:rPr>
                <a:t>МОД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341280" y="1200240"/>
            <a:ext cx="2676600" cy="1536480"/>
            <a:chOff x="341280" y="1200240"/>
            <a:chExt cx="2676600" cy="1536480"/>
          </a:xfrm>
        </p:grpSpPr>
        <p:pic>
          <p:nvPicPr>
            <p:cNvPr id="108" name="Oval 8" descr=""/>
            <p:cNvPicPr/>
            <p:nvPr/>
          </p:nvPicPr>
          <p:blipFill>
            <a:blip r:embed="rId3"/>
            <a:stretch/>
          </p:blipFill>
          <p:spPr>
            <a:xfrm>
              <a:off x="341280" y="1200240"/>
              <a:ext cx="267660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44560" y="1536840"/>
              <a:ext cx="166860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Arial"/>
                </a:rPr>
                <a:t>ФОРМООБР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Arial"/>
                </a:rPr>
                <a:t>З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8"/>
          <p:cNvSpPr/>
          <p:nvPr/>
        </p:nvSpPr>
        <p:spPr>
          <a:xfrm>
            <a:off x="571680" y="2924280"/>
            <a:ext cx="2801880" cy="3448080"/>
          </a:xfrm>
          <a:prstGeom prst="rect">
            <a:avLst/>
          </a:prstGeom>
          <a:solidFill>
            <a:srgbClr val="a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 (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 ДАВАЙ (-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, ПУСК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, МЕНЕ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ТО, КОЕ-, -НИБУД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ЛИ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359960" y="3571920"/>
            <a:ext cx="619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5364000" y="2492280"/>
            <a:ext cx="3529080" cy="4146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НОСЯТ СМЫСЛ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ТТЕ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ч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ЫРАЖАЮТ ЧУВ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лиц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яг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333360"/>
            <a:ext cx="720108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Группы частиц по зна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4"/>
          <p:cNvSpPr/>
          <p:nvPr/>
        </p:nvSpPr>
        <p:spPr>
          <a:xfrm flipH="1">
            <a:off x="1547640" y="1125360"/>
            <a:ext cx="865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724360" y="1052640"/>
            <a:ext cx="100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826920" y="1916280"/>
            <a:ext cx="8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282600" y="2000160"/>
            <a:ext cx="4395960" cy="344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ОПР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, РАЗВЕ, НЕУЖ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ЛИ (</a:t>
            </a:r>
            <a:r>
              <a:rPr b="1" lang="ru-RU" sz="2000" spc="-1" strike="noStrike">
                <a:solidFill>
                  <a:srgbClr val="33334d"/>
                </a:solidFill>
                <a:latin typeface="Arial"/>
              </a:rPr>
              <a:t>разг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), УЖЕЛЬ (</a:t>
            </a:r>
            <a:r>
              <a:rPr b="1" lang="ru-RU" sz="2000" spc="-1" strike="noStrike">
                <a:solidFill>
                  <a:srgbClr val="33334d"/>
                </a:solidFill>
                <a:latin typeface="Arial"/>
              </a:rPr>
              <a:t>устар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КАЗ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(А ВО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Н (А В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ТОЧН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ЕННО, КАК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ЫДЕЛ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ЬКО, Л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КЛЮЧИ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929120" y="1857240"/>
            <a:ext cx="392904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ОСКЛИЦА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ЗА,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МН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РЯД  ЛИ,  БУДТО    ЕДВА  ЛИ, КАК БУДТО, ВРОДЕ,СЛО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ИЛ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,  ДАЖЕ,  ДАЖЕ          И,   УЖ,  ВЕДЬ, НИ, В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-ТАКИ,  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МЯГЧЕНИЕ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89000"/>
            <a:ext cx="712764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дальные час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1357200"/>
          <a:ext cx="8248680" cy="5399280"/>
        </p:xfrm>
        <a:graphic>
          <a:graphicData uri="http://schemas.openxmlformats.org/drawingml/2006/table">
            <a:tbl>
              <a:tblPr/>
              <a:tblGrid>
                <a:gridCol w="4124160"/>
                <a:gridCol w="412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астица НЕ употребля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отрицания (это ее основное знач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 предложениях с двойным отрицанием, которые имеют значение утверждени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Не мог не помочь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т.е.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должен был помоч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3)   в вопросительных и восклицательных  предложениях, которые содержат предположение, обобщение, необходимость, опасение, вежливую просьб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астица НИ употребля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отриц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усиления отрицания, которое выражено частицей НЕ, стоящей перед сказуемым, или словом Н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Он не сказал ни сл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Вокруг нет ни душ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3) </a:t>
                      </a: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для усиления утверждения, когда употребляется в придаточной части сложноподчиненного предложения  (вносит обобщающий или уступительный  отт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значения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333360"/>
            <a:ext cx="8136000" cy="120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трицательные частицы НЕ и 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28760" y="428760"/>
          <a:ext cx="8535960" cy="2719080"/>
        </p:xfrm>
        <a:graphic>
          <a:graphicData uri="http://schemas.openxmlformats.org/drawingml/2006/table">
            <a:tbl>
              <a:tblPr/>
              <a:tblGrid>
                <a:gridCol w="4268520"/>
                <a:gridCol w="4267440"/>
              </a:tblGrid>
              <a:tr h="23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е пойти ли нам дом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уда он только </a:t>
                      </a:r>
                      <a:r>
                        <a:rPr b="1" i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не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обращал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)  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если входит в состав сочетаний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ПОКА НЕ, ЧТОБЫ НЕ, ЕДВА ЛИ НЕ, ЧУТЬ ЛИ НЕ, ДАЛЕКО НЕ, ОТНЮДЬ НЕ, ВОВСЕ НЕ, НИЧУТЬ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Он   помогал всем, кто бы к нему </a:t>
                      </a:r>
                      <a:r>
                        <a:rPr b="1" i="1" lang="ru-RU" sz="1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  <a:ea typeface="Arial"/>
                        </a:rPr>
                        <a:t>ни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обращал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AutoNum type="arabicParenR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в  ряде устойчивых сочетани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НИ ТО НИ СЁ,</a:t>
                      </a: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 НИ РЫБА НИ МЯСО,</a:t>
                      </a: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 НИ СЛУХУ НИ ДУ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24000" y="3573360"/>
            <a:ext cx="8569080" cy="2519640"/>
          </a:xfrm>
          <a:prstGeom prst="rect">
            <a:avLst/>
          </a:prstGeom>
          <a:solidFill>
            <a:srgbClr val="a1f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цы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 и 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идают 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 отдельным его чл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х употребление зависит от смы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оторый они вносят в предложение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1495440" cy="1581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642960" y="2357280"/>
            <a:ext cx="825012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747"/>
                </a:solidFill>
                <a:latin typeface="Arial"/>
              </a:rPr>
              <a:t>Законч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Куда не пойду,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да ни пойду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,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не просил,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ни просил,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тавь НЕ или 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На море …волн, …ветра. 2. Здесь…место и …время вести раз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Из леса…доносилось …единого звука. 4.  …звука, кроме вздохов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5.Трудно было понять, какой породы щенок: …бульдог, …такса, …пуд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620640"/>
            <a:ext cx="6119640" cy="1201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отренируемс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rusedu.ru</dc:description>
  <dc:language>en-US</dc:language>
  <cp:lastModifiedBy>админ</cp:lastModifiedBy>
  <dcterms:modified xsi:type="dcterms:W3CDTF">2018-07-22T12:52:43Z</dcterms:modified>
  <cp:revision>61</cp:revision>
  <dc:subject/>
  <dc:title>Частицы в русском я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d000000000001024140</vt:lpwstr>
  </property>
</Properties>
</file>